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9F8-35B9-4833-A20D-B6A09B66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E0C-C213-4EA9-9A53-17078F1D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82E-197E-449D-8ABB-742A9C38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498-EDB0-412D-90E9-C7DF56D8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204C-AF1F-48CD-B45D-78A9D93D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37C-9B91-49E3-9EDA-46221FF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7A87-6D40-435A-A77F-C501536E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D331-E04D-408F-969D-9296C23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055-615D-4478-BBB2-B5F657F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8C41-74EA-43C6-8B69-0B8C925E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B9D2-DBAA-4552-B8BD-AA63A61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89A-474A-4079-8102-FDD55076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D41B-71E4-4F88-B53B-ED2D1B3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F066-AE50-4D2B-BE58-167A19D3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8E6A-4CAD-4523-A2CD-EE5743D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5739-2C13-47D0-B025-0872DAB7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773D-2A2B-4748-9447-ECF3F4FC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0EE1-6825-4F0F-BA12-16D3C6B4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CE86-4E55-415D-A1DB-28779AA8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EC17-1E64-4E9A-A972-214088D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F052-9E49-4FF7-8F34-F74FD7F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672B-06A9-4280-873C-7B5431E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644-5F1A-4B00-AFCF-769042FE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2159-4C25-46B0-B240-BC6D7F4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463A-27B2-4D6E-A394-EB98C95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7673-4F74-4EE4-97BF-431DC55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BF2F-1506-418D-93CB-6E0FD6C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090D-5AAA-4B08-A52C-6FAB8C8D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C8ED-A92B-436C-9752-2ACAB8CB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BDA2-1184-400F-9C47-9903A6C7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DE05-445F-45EF-87B9-BB9573C5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7B35-6A07-4EBF-B0FB-F98E7C42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B3F7-D51F-45E5-9BBE-6DF87DD7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58E-539E-4C82-9237-66ECCCF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D0807-8482-4408-BF59-BA1908C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9341-386A-40B7-BDF2-4782887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1961-7FC7-4BE4-9445-44CD6AF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77FC-9E51-4057-A396-8ECE253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EBB4-42F0-4422-832E-D5556CD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E237-7177-4EB7-A745-3BA5C6B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32CE-5622-4BEC-9297-8D691895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53D9-017B-4F55-A71B-FC8FEEB9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6DF5-1D53-4847-9C4D-22F944B5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F2B-C729-4AB0-A56B-B4ABE64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190-431F-4730-9E97-CBA48FE5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1C6-595E-40FE-9246-0C0E09F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ED7-FBD2-4963-A3F6-F94AC25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2F6-F59F-4578-9610-F3725F4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BC52C-1459-4E07-B5CE-ECC0E95320D1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AB66C-4079-4F2D-9F40-186D57B947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0FEC6-4F13-4D8C-BD39-E925E641601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A3CB9-0E44-40F9-A194-C07C154F53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88404-266A-4937-A87F-37F651CC254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558B5-3D1B-46D6-9700-111FF2D8F3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324D8-6E02-4D82-850E-D45647CAACC3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17BDD-2EDF-4867-8D65-7FC0F024D7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ifting Towards Disun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854-186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507960" y="1212840"/>
            <a:ext cx="8128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litical Upheaval, 18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aham Lincoln won election, did not win popular vo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th Carolina now has a reason to sece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ublicans won presidential election, but they did NOT control Senate, House of Representatives, or Supreme Cou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157640" y="4145040"/>
            <a:ext cx="21938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ess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60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th Carolin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edes from the Un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es that follow: Alabama, Mississippi, Florida, Georgia, Tex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ed Confederate States of Amer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se Jefferson Davis as their presid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435400" y="4253040"/>
            <a:ext cx="40924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ittenden Amendmen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gned to appease the Sou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vented slavery north of the 36’30 line, but slavery would be protected south of the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coln rejected the amend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rewell to the Unio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the six most important events leading to the Civil War (in your opinion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 be any of the events on your ch 18-19 study guide, or any other event you believe wa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a timeline for these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r timeline should include a description of the event, how it led to the Civil War and a pi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’ll have time Monday to work on this in class as well- due at end of class for a study guide g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eeding Kan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7584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olitionist groups sent people to live in Kansas (popular sovereign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governments establish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lavery: Shawnee 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-soilers: Tope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56- civil war in Kansas started: pro-slavery raiders burned down town of Law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79840" y="4435560"/>
            <a:ext cx="38750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eeding Kan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Brown- fanatical abolitionist, murdered 5 pro-slavery m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vil War in Kansas- continued until nation’s civil w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troyed property, paralyzed agriculture, cost l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ecompton Constitu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not allowed to vote for or against constitution, but for constitution “with slavery” or “with no slavery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ither way, slavery still exists in Kans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ooks/Sumner cl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 of 185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 Buchanan: Democratic candi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pular sovereign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iticized for being a bachel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C. Fremont: Republican candi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gued against extension of slavery into territo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lard Fillmore: Know-Nothing Party candi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 Buchanan wins e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northerners voted for him to keep union togeth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 Republicans put up fight against Democra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 of 185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558720" y="1935000"/>
            <a:ext cx="8128080" cy="43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ed Scott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d Scott lived w/ master for 5 yrs in Illinois &amp; Wisconsin territo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ed for freedom on basis of residence on free s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property, can be legally held in slav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lared Missouri Compromise unconstitut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462480" y="4278240"/>
            <a:ext cx="18223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nic of 185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e to California gold inflating currency &amp; over speculation of l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therners wanted to give 160 acres of land to pioneers for f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posed by eastern industrialists &amp; souther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mestead Act of 186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ade public lands available at 25 cents/ac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toed by Buchan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ariff of 1857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lowered duties to 20%, blamed for causing pa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ncoln Douglas Deb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natorial Election, 185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aham Lincoln vs. Stephen Doug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reeport Doctrine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matter how the Supreme Court ruled, slavery would stay down if the people want it 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ttle Giant” Douglas won senatorial election, Lincoln won popular vo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t Lincoln in the spotligh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653080" y="4751280"/>
            <a:ext cx="268128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 of 1860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mocratic Party spli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uthern Democratic Candidate: John C. Breckenri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thern Democratic Candidate: Stephen Dougl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itutional Union Party: John B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ublican Candidate: Abraham Lincol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ealed to nearly every part of the 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utherners threatened secession if Lincoln was elec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3:06:02Z</dcterms:created>
  <dc:creator>Emily Johnson</dc:creator>
  <dc:description/>
  <dc:language>en-US</dc:language>
  <cp:lastModifiedBy>emily.johnson</cp:lastModifiedBy>
  <dcterms:modified xsi:type="dcterms:W3CDTF">2012-12-03T14:59:41Z</dcterms:modified>
  <cp:revision>5</cp:revision>
  <dc:subject/>
  <dc:title>Chapter 19</dc:title>
</cp:coreProperties>
</file>